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9.jpeg" ContentType="image/jpeg"/>
  <Override PartName="/ppt/media/image6.jpeg" ContentType="image/jpeg"/>
  <Override PartName="/ppt/media/breeze.wav" ContentType="audio/x-wav"/>
  <Override PartName="/ppt/media/image18.wmf" ContentType="image/x-wmf"/>
  <Override PartName="/ppt/media/image3.jpeg" ContentType="image/jpeg"/>
  <Override PartName="/ppt/media/image17.jpeg" ContentType="image/jpeg"/>
  <Override PartName="/ppt/media/image16.wmf" ContentType="image/x-wmf"/>
  <Override PartName="/ppt/media/image2.png" ContentType="image/png"/>
  <Override PartName="/ppt/media/image4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BF4D5-AD88-4400-B615-818CDAAD64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304A4-989A-4B09-8F7B-D55B83C15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910E6-3D7F-4A0E-8EA7-43109909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48DE1-3AC8-4694-9358-2518CF16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5B0C6-E593-43D9-B137-A22A3944D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6A472-0B8B-4AC0-8C13-74DCAB8F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36710-3AE6-4F03-B2ED-369BCE469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76C-9496-4719-B563-F817F876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93B-4B7B-4B72-8DF2-56B36B40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F56-1EDF-40C4-890B-DB4AF2A5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EBD-2835-46FC-A9F9-FE100567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2C7A-68B3-4C30-AC3C-F94ED484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1C8F-E7A8-453D-810F-3FC71926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12C5-49A4-47A7-A466-E43C3439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8B8C-E815-45B0-A322-A453646A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EC1D-3288-4BF2-9E6A-1DBED9C8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C6E9-3CA0-46F6-90BE-31773544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3A65-774D-4617-89BB-1EFDEFB0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AFA-18B7-40B4-BC0B-76E736F0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C0F2-C6AF-46EF-9203-D274DFFA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21B2-9A70-4B74-89A1-860AFF2B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BB13-AA51-4420-9708-C0794F63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3AF3-96BE-4173-BE60-976E8E3E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5F16-BBC6-45D2-ACEA-4977F2B4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437-F477-4C79-8168-B2164122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CFB-171A-4F13-8F06-7703FE7B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D85-9122-45AB-922D-2BB6C456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9E1-FB24-421A-B715-147C6C8B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1D8-F8E9-4E75-BBF5-70227C0B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818-DDD6-43EC-8447-9A41207A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682-425A-40B6-B661-0117E0FD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942AF-B29F-44CA-9B45-94422196A05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D5C32-0EE7-45A1-B4CC-56E8ADB5C18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C2900-B4FA-49B6-85AD-9E572708251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3D638-8B79-4152-AEF9-5F75BC35612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whoosh.wav" TargetMode="External"/><Relationship Id="rId6" Type="http://schemas.openxmlformats.org/officeDocument/2006/relationships/image" Target="../media/image14.wmf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whoosh.wav" TargetMode="External"/><Relationship Id="rId6" Type="http://schemas.openxmlformats.org/officeDocument/2006/relationships/image" Target="../media/image16.wmf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apter 4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ular Respir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GC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Cobb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468000"/>
            <a:ext cx="57895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7c9f"/>
                </a:solidFill>
                <a:latin typeface="News Gothic MT"/>
              </a:rPr>
              <a:t>Cellular Respiration Flowchart (aerobic)</a:t>
            </a:r>
            <a:endParaRPr b="0" lang="en-US" sz="2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752480" y="365760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80880" y="2666880"/>
            <a:ext cx="1419480" cy="1878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057400" y="2666880"/>
            <a:ext cx="152388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3797280" y="2666880"/>
            <a:ext cx="1308240" cy="1878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334120" y="2666880"/>
            <a:ext cx="144756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7010280" y="2057400"/>
            <a:ext cx="190512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577800" y="2724120"/>
            <a:ext cx="11746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Glucose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(C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Oxyge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(0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Glycoly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Kreb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Cyc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Electro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Transport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Ch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7162920" y="2514600"/>
            <a:ext cx="13651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Carb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Dioxi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(C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T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tric Acid Cycle (Krebs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Pyruvic acids from glycolysis diffuses into the mitochondri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yruvic acid is turned into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acetyl CoA and CO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s released.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ne glucose molecule makes the cycle turn twic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emical rxns in Mitochondria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roducts:  6 NADH, 2 FADH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, 2 ATP and 4 CO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09-06-CellularRespirat-L2.gif"/>
          <p:cNvPicPr/>
          <p:nvPr/>
        </p:nvPicPr>
        <p:blipFill>
          <a:blip r:embed="rId2"/>
          <a:stretch/>
        </p:blipFill>
        <p:spPr>
          <a:xfrm>
            <a:off x="762120" y="1209600"/>
            <a:ext cx="7619760" cy="5648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a58"/>
                </a:solidFill>
                <a:latin typeface="News Gothic MT"/>
              </a:rPr>
              <a:t>Krebs cycle</a:t>
            </a:r>
            <a:br>
              <a:rPr sz="3200"/>
            </a:br>
            <a:r>
              <a:rPr b="0" lang="en-US" sz="3200" spc="-1" strike="noStrike">
                <a:solidFill>
                  <a:srgbClr val="d5edf4"/>
                </a:solidFill>
                <a:latin typeface="News Gothic MT"/>
              </a:rPr>
              <a:t>pyruvate </a:t>
            </a:r>
            <a:r>
              <a:rPr b="0" lang="en-US" sz="3200" spc="-1" strike="noStrike">
                <a:solidFill>
                  <a:srgbClr val="d5edf4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d5edf4"/>
                </a:solidFill>
                <a:latin typeface="News Gothic MT"/>
              </a:rPr>
              <a:t>acetyl CoA &amp; CO</a:t>
            </a:r>
            <a:r>
              <a:rPr b="0" lang="en-US" sz="3200" spc="-1" strike="noStrike" baseline="-25000">
                <a:solidFill>
                  <a:srgbClr val="d5edf4"/>
                </a:solidFill>
                <a:latin typeface="News Gothic MT"/>
              </a:rPr>
              <a:t>2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838080" y="6095880"/>
            <a:ext cx="74678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523880" y="6248520"/>
            <a:ext cx="16765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bio_ch9_4760"/>
          <p:cNvPicPr/>
          <p:nvPr/>
        </p:nvPicPr>
        <p:blipFill>
          <a:blip r:embed="rId2"/>
          <a:stretch/>
        </p:blipFill>
        <p:spPr>
          <a:xfrm>
            <a:off x="762120" y="838080"/>
            <a:ext cx="7619760" cy="5786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541600" y="220176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6699"/>
                </a:solidFill>
                <a:latin typeface="Calibri"/>
                <a:ea typeface="Arial"/>
              </a:rPr>
              <a:t>Citric Acid Prod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3600" y="304560"/>
            <a:ext cx="5996160" cy="2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7c9f"/>
                </a:solidFill>
                <a:latin typeface="News Gothic MT"/>
              </a:rPr>
              <a:t> </a:t>
            </a:r>
            <a:r>
              <a:rPr b="0" lang="en-US" sz="2200" spc="-1" strike="noStrike">
                <a:solidFill>
                  <a:srgbClr val="2c7c9f"/>
                </a:solidFill>
                <a:latin typeface="News Gothic MT"/>
              </a:rPr>
              <a:t>The Krebs Cycle</a:t>
            </a:r>
            <a:endParaRPr b="0" lang="en-US" sz="2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1892520" cy="1333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164280" y="245268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9"/>
          <p:cNvPicPr/>
          <p:nvPr/>
        </p:nvPicPr>
        <p:blipFill>
          <a:blip r:embed="rId2"/>
          <a:stretch/>
        </p:blipFill>
        <p:spPr>
          <a:xfrm>
            <a:off x="644400" y="457200"/>
            <a:ext cx="7853400" cy="42735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85800" y="5029200"/>
            <a:ext cx="78487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+ and e- transport molec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0" y="762120"/>
            <a:ext cx="1295280" cy="99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029200" y="121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5edf4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lectron Transport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DH and FAD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from Krebs Cycle are pumped by electron energy across the inner membrane (cristae) and creates a concentration difference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 H ions come back across through the ATP synthase and create ATP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xygen (from what we breathe in) comes in and binds to the H ions to make wat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lectron Transpo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2 ATP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ter is made from the Hydrogen and Oxyge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jcobb\Desktop\imgres3.jpg"/>
          <p:cNvPicPr/>
          <p:nvPr/>
        </p:nvPicPr>
        <p:blipFill>
          <a:blip r:embed="rId2"/>
          <a:stretch/>
        </p:blipFill>
        <p:spPr>
          <a:xfrm>
            <a:off x="0" y="131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jcobb\Desktop\imgres.jpg"/>
          <p:cNvPicPr/>
          <p:nvPr/>
        </p:nvPicPr>
        <p:blipFill>
          <a:blip r:embed="rId2"/>
          <a:stretch/>
        </p:blipFill>
        <p:spPr>
          <a:xfrm>
            <a:off x="-561960" y="0"/>
            <a:ext cx="971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1181160" y="1905120"/>
            <a:ext cx="3571920" cy="3190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824040" y="252360"/>
            <a:ext cx="6315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9688"/>
                </a:solidFill>
                <a:latin typeface="Arial"/>
              </a:rPr>
              <a:t>Electron Trans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675760" y="2119320"/>
            <a:ext cx="23929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two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u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nner (fol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63680" y="327672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844560" y="3727440"/>
            <a:ext cx="67320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ular respir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od (glucose) into AT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t “breathing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can be either aerobic or anaerobi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erobic – require oxyge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naerobic – does not require oxyge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ttp://www.science.smith.edu/departments/Biology/Bio231/krebs.htm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09-06-CellularRespirat-L3.gif"/>
          <p:cNvPicPr/>
          <p:nvPr/>
        </p:nvPicPr>
        <p:blipFill>
          <a:blip r:embed="rId2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762120" y="5486400"/>
            <a:ext cx="761976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019920" y="2362320"/>
            <a:ext cx="1752480" cy="1143000"/>
          </a:xfrm>
          <a:prstGeom prst="rect">
            <a:avLst/>
          </a:prstGeom>
          <a:solidFill>
            <a:srgbClr val="2c7c9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019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d5edf4"/>
                </a:solidFill>
                <a:latin typeface="Arial"/>
              </a:rPr>
              <a:t>ELECTRON TRANSPORT CH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Oval 2"/>
          <p:cNvSpPr/>
          <p:nvPr/>
        </p:nvSpPr>
        <p:spPr>
          <a:xfrm>
            <a:off x="838080" y="2216160"/>
            <a:ext cx="4946760" cy="266076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1523880" y="2666880"/>
            <a:ext cx="3581640" cy="1981440"/>
          </a:xfrm>
          <a:prstGeom prst="pie">
            <a:avLst/>
          </a:prstGeom>
          <a:solidFill>
            <a:srgbClr val="ffa27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051360" y="335124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d5edf4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170080" y="23479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851360" y="37339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303800" y="242424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784680" y="43434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803240" y="403704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2793960" y="43434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V="1">
            <a:off x="4267080" y="4647960"/>
            <a:ext cx="15264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2990160" y="4927680"/>
            <a:ext cx="245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739160" y="152280"/>
            <a:ext cx="36669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9688"/>
                </a:solidFill>
                <a:latin typeface="Arial"/>
              </a:rPr>
              <a:t>Mitochond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8"/>
          <p:cNvGraphicFramePr/>
          <p:nvPr/>
        </p:nvGraphicFramePr>
        <p:xfrm>
          <a:off x="8915400" y="1600200"/>
          <a:ext cx="203976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15400" y="1600200"/>
                    <a:ext cx="20397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9"/>
          <p:cNvSpPr/>
          <p:nvPr/>
        </p:nvSpPr>
        <p:spPr>
          <a:xfrm flipV="1" rot="10608600">
            <a:off x="1368720" y="2819160"/>
            <a:ext cx="52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3259080" y="251316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650880" y="1738440"/>
            <a:ext cx="8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1255680" y="13572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23"/>
          <p:cNvGraphicFramePr/>
          <p:nvPr/>
        </p:nvGraphicFramePr>
        <p:xfrm>
          <a:off x="4267080" y="1523880"/>
          <a:ext cx="2040120" cy="60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Object 23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1523880"/>
                    <a:ext cx="20401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24"/>
          <p:cNvSpPr/>
          <p:nvPr/>
        </p:nvSpPr>
        <p:spPr>
          <a:xfrm>
            <a:off x="4774680" y="1600200"/>
            <a:ext cx="888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1712160" y="1371600"/>
            <a:ext cx="35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2336760" y="27432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5613480" y="12193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6062760" y="1219320"/>
            <a:ext cx="35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2725560" y="22860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30"/>
          <p:cNvCxnSpPr/>
          <p:nvPr/>
        </p:nvCxnSpPr>
        <p:spPr>
          <a:xfrm>
            <a:off x="8915400" y="1828800"/>
            <a:ext cx="91512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Ba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animMotion origin="layout" path="M 0.39862 0.52683 C 0.16042 0.5074 -0.07778 0.48797 -0.11042 0.45745 C -0.14323 0.42692 0.24792 0.37419 0.20296 0.34412 C 0.15799 0.31406 -0.36233 0.35962 -0.38056 0.27613 C -0.39879 0.19264 0.01684 -0.11124 0.0941 -0.15703 C 0.17119 -0.20282 0.09775 -0.02405 0.08212 0.00208 C 0.06649 0.02821 0.01371 0.00023 8.88889E-006 1.3876E-007 E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animMotion origin="layout" path="M -0.23438 0.00162 C -0.24011 -0.05458 -0.24549 -0.11055 -0.26077 -0.142 C -0.27604 -0.17345 -0.30434 -0.19357 -0.3257 -0.18779 C -0.34705 -0.18201 -0.35521 -0.11772 -0.38889 -0.10661 C -0.42274 -0.09551 -0.4809 -0.1006 -0.52813 -0.12118 C -0.57518 -0.14177 -0.62865 -0.24399 -0.67153 -0.22965 C -0.71441 -0.21508 -0.75382 -0.03747 -0.78577 -0.03377 C -0.81771 -0.02983 -0.83403 -0.20999 -0.86302 -0.20652 C -0.89219 -0.20305 -0.94271 -0.0481 -0.96042 -0.01272 C -0.97813 0.02243 -0.97396 0.01318 -0.96962 0.00393 E">
                                      <p:cBhvr>
                                        <p:cTn id="15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2"/>
          <p:cNvGraphicFramePr/>
          <p:nvPr/>
        </p:nvGraphicFramePr>
        <p:xfrm>
          <a:off x="457200" y="1325520"/>
          <a:ext cx="2251080" cy="31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25520"/>
                    <a:ext cx="225108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3"/>
          <p:cNvSpPr/>
          <p:nvPr/>
        </p:nvSpPr>
        <p:spPr>
          <a:xfrm>
            <a:off x="3292560" y="533520"/>
            <a:ext cx="577512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passed across inne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their energy gradually decreas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energy used to transport</a:t>
            </a:r>
            <a:r>
              <a:rPr b="1" lang="en-US" sz="1800" spc="-1" strike="noStrike">
                <a:solidFill>
                  <a:srgbClr val="2c7c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c7c9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c7c9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the intermembran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the final electron ac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joins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oduce </a:t>
            </a: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244a58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O.</a:t>
            </a: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123280" y="5105520"/>
            <a:ext cx="5146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If there is no oxy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the electron chain s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because there is no way to release electrons</a:t>
            </a: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143000" y="3429000"/>
            <a:ext cx="1612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2"/>
          <p:cNvSpPr/>
          <p:nvPr/>
        </p:nvSpPr>
        <p:spPr>
          <a:xfrm>
            <a:off x="838080" y="2216160"/>
            <a:ext cx="4946760" cy="266076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1523880" y="2666880"/>
            <a:ext cx="3581640" cy="1981440"/>
          </a:xfrm>
          <a:prstGeom prst="pie">
            <a:avLst/>
          </a:prstGeom>
          <a:solidFill>
            <a:srgbClr val="ffa27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051360" y="335124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d5edf4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170080" y="23479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851360" y="37339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303800" y="242424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784680" y="43434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803240" y="403704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2793960" y="43434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 flipV="1">
            <a:off x="4267080" y="4647960"/>
            <a:ext cx="15264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2990160" y="4927680"/>
            <a:ext cx="245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739160" y="152280"/>
            <a:ext cx="36669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9688"/>
                </a:solidFill>
                <a:latin typeface="Arial"/>
              </a:rPr>
              <a:t>Mitochond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18"/>
          <p:cNvGraphicFramePr/>
          <p:nvPr/>
        </p:nvGraphicFramePr>
        <p:xfrm>
          <a:off x="8915400" y="1600200"/>
          <a:ext cx="203976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15400" y="1600200"/>
                    <a:ext cx="20397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19"/>
          <p:cNvSpPr/>
          <p:nvPr/>
        </p:nvSpPr>
        <p:spPr>
          <a:xfrm flipV="1" rot="10608600">
            <a:off x="1368720" y="2819160"/>
            <a:ext cx="52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3259080" y="251316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650880" y="1738440"/>
            <a:ext cx="8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1255680" y="13572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23"/>
          <p:cNvGraphicFramePr/>
          <p:nvPr/>
        </p:nvGraphicFramePr>
        <p:xfrm>
          <a:off x="4267080" y="1523880"/>
          <a:ext cx="2040120" cy="60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Object 23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1523880"/>
                    <a:ext cx="20401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24"/>
          <p:cNvSpPr/>
          <p:nvPr/>
        </p:nvSpPr>
        <p:spPr>
          <a:xfrm>
            <a:off x="4774680" y="1600200"/>
            <a:ext cx="888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1712160" y="1371600"/>
            <a:ext cx="35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6"/>
          <p:cNvSpPr/>
          <p:nvPr/>
        </p:nvSpPr>
        <p:spPr>
          <a:xfrm>
            <a:off x="2336760" y="27432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5613480" y="12193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6062760" y="1219320"/>
            <a:ext cx="35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725560" y="22860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30"/>
          <p:cNvCxnSpPr/>
          <p:nvPr/>
        </p:nvCxnSpPr>
        <p:spPr>
          <a:xfrm>
            <a:off x="8915400" y="1828800"/>
            <a:ext cx="91512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Bar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animMotion origin="layout" path="M 0.39862 0.52683 C 0.16042 0.5074 -0.07778 0.48797 -0.11042 0.45745 C -0.14323 0.42692 0.24792 0.37419 0.20296 0.34412 C 0.15799 0.31406 -0.36233 0.35962 -0.38056 0.27613 C -0.39879 0.19264 0.01684 -0.11124 0.0941 -0.15703 C 0.17119 -0.20282 0.09775 -0.02405 0.08212 0.00208 C 0.06649 0.02821 0.01371 0.00023 8.88889E-006 1.3876E-007 E">
                                      <p:cBhvr>
                                        <p:cTn id="243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animMotion origin="layout" path="M -0.23438 0.00162 C -0.24011 -0.05458 -0.24549 -0.11055 -0.26077 -0.142 C -0.27604 -0.17345 -0.30434 -0.19357 -0.3257 -0.18779 C -0.34705 -0.18201 -0.35521 -0.11772 -0.38889 -0.10661 C -0.42274 -0.09551 -0.4809 -0.1006 -0.52813 -0.12118 C -0.57518 -0.14177 -0.62865 -0.24399 -0.67153 -0.22965 C -0.71441 -0.21508 -0.75382 -0.03747 -0.78577 -0.03377 C -0.81771 -0.02983 -0.83403 -0.20999 -0.86302 -0.20652 C -0.89219 -0.20305 -0.94271 -0.0481 -0.96042 -0.01272 C -0.97813 0.02243 -0.97396 0.01318 -0.96962 0.00393 E">
                                      <p:cBhvr>
                                        <p:cTn id="247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495440" y="533520"/>
            <a:ext cx="6818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What happens when there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no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to accept the electr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09800" y="2521080"/>
            <a:ext cx="81342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* glycolysis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* then fermentation in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k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ac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th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2"/>
          <p:cNvSpPr/>
          <p:nvPr/>
        </p:nvSpPr>
        <p:spPr>
          <a:xfrm>
            <a:off x="8523360" y="0"/>
            <a:ext cx="620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01361-BF8D-4C43-B5A0-B11306F5BC03}" type="slidenum">
              <a:rPr b="0" lang="en-US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08_11"/>
          <p:cNvPicPr/>
          <p:nvPr/>
        </p:nvPicPr>
        <p:blipFill>
          <a:blip r:embed="rId2"/>
          <a:stretch/>
        </p:blipFill>
        <p:spPr>
          <a:xfrm>
            <a:off x="1251000" y="430200"/>
            <a:ext cx="6645240" cy="6356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00200" y="1650600"/>
            <a:ext cx="512136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roducts of Ferment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79240" y="533520"/>
            <a:ext cx="325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762120" y="2521080"/>
            <a:ext cx="81342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0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ust takes e-&amp; H+ off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 glycolysis ca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388520" y="641520"/>
            <a:ext cx="5818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9213b"/>
                </a:solidFill>
                <a:latin typeface="Arial"/>
              </a:rPr>
              <a:t>Alcoholic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0880" y="2251080"/>
            <a:ext cx="832032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fter glucose broken down to pyruvate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n pyruvate broken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2c7c9f"/>
                </a:solidFill>
                <a:latin typeface="Comic Sans MS"/>
              </a:rPr>
              <a:t>CO</a:t>
            </a:r>
            <a:r>
              <a:rPr b="1" lang="en-US" sz="2800" spc="-1" strike="noStrike" baseline="-25000">
                <a:solidFill>
                  <a:srgbClr val="2c7c9f"/>
                </a:solidFill>
                <a:latin typeface="Comic Sans MS"/>
              </a:rPr>
              <a:t>2 </a:t>
            </a:r>
            <a:r>
              <a:rPr b="1" lang="en-US" sz="2800" spc="-1" strike="noStrike">
                <a:solidFill>
                  <a:srgbClr val="2c7c9f"/>
                </a:solidFill>
                <a:latin typeface="Comic Sans MS"/>
              </a:rPr>
              <a:t>and ETHANO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838080" y="4984920"/>
          <a:ext cx="646200" cy="15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984920"/>
                    <a:ext cx="64620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"/>
          <p:cNvGraphicFramePr/>
          <p:nvPr/>
        </p:nvGraphicFramePr>
        <p:xfrm>
          <a:off x="2666880" y="5137200"/>
          <a:ext cx="646200" cy="159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513720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5029200" y="5060880"/>
          <a:ext cx="646200" cy="159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506088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7"/>
          <p:cNvGraphicFramePr/>
          <p:nvPr/>
        </p:nvGraphicFramePr>
        <p:xfrm>
          <a:off x="7238880" y="5060880"/>
          <a:ext cx="646200" cy="1595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38880" y="506088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8"/>
          <p:cNvGraphicFramePr/>
          <p:nvPr/>
        </p:nvGraphicFramePr>
        <p:xfrm>
          <a:off x="7532640" y="282600"/>
          <a:ext cx="952560" cy="162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1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32640" y="282600"/>
                    <a:ext cx="95256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9"/>
          <p:cNvGraphicFramePr/>
          <p:nvPr/>
        </p:nvGraphicFramePr>
        <p:xfrm>
          <a:off x="141120" y="358920"/>
          <a:ext cx="952560" cy="162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3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1120" y="358920"/>
                    <a:ext cx="95256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09-17a-Fermentation-L"/>
          <p:cNvPicPr/>
          <p:nvPr/>
        </p:nvPicPr>
        <p:blipFill>
          <a:blip r:embed="rId2"/>
          <a:stretch/>
        </p:blipFill>
        <p:spPr>
          <a:xfrm>
            <a:off x="1092240" y="339840"/>
            <a:ext cx="759456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143000" y="533520"/>
            <a:ext cx="6327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688"/>
                </a:solidFill>
                <a:latin typeface="Arial"/>
              </a:rPr>
              <a:t>3 Stag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688"/>
                </a:solidFill>
                <a:latin typeface="Arial"/>
              </a:rPr>
              <a:t>Aerobic Cellular Respi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009688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News Gothic MT"/>
              </a:rPr>
              <a:t>Glycolys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News Gothic MT"/>
              </a:rPr>
              <a:t>Preparation Step &amp;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News Gothic MT"/>
              </a:rPr>
              <a:t>  </a:t>
            </a:r>
            <a:r>
              <a:rPr b="1" lang="en-US" sz="3200" spc="-1" strike="noStrike">
                <a:solidFill>
                  <a:srgbClr val="2c7c9f"/>
                </a:solidFill>
                <a:latin typeface="News Gothic MT"/>
              </a:rPr>
              <a:t>Citric Acid Cycle (Kreb’s Cycle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009688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News Gothic MT"/>
              </a:rPr>
              <a:t>Electron Transport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68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68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68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68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388520" y="641520"/>
            <a:ext cx="5818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9213b"/>
                </a:solidFill>
                <a:latin typeface="Arial"/>
              </a:rPr>
              <a:t>Alcoholic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2251080"/>
            <a:ext cx="83203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cteria &amp; y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d to make bread, alcoho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838080" y="4984920"/>
          <a:ext cx="646200" cy="15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984920"/>
                    <a:ext cx="64620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5"/>
          <p:cNvGraphicFramePr/>
          <p:nvPr/>
        </p:nvGraphicFramePr>
        <p:xfrm>
          <a:off x="2666880" y="5137200"/>
          <a:ext cx="646200" cy="159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513720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6"/>
          <p:cNvGraphicFramePr/>
          <p:nvPr/>
        </p:nvGraphicFramePr>
        <p:xfrm>
          <a:off x="5029200" y="5060880"/>
          <a:ext cx="646200" cy="159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506088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7"/>
          <p:cNvGraphicFramePr/>
          <p:nvPr/>
        </p:nvGraphicFramePr>
        <p:xfrm>
          <a:off x="7238880" y="5060880"/>
          <a:ext cx="646200" cy="1595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38880" y="506088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8"/>
          <p:cNvGraphicFramePr/>
          <p:nvPr/>
        </p:nvGraphicFramePr>
        <p:xfrm>
          <a:off x="7532640" y="282600"/>
          <a:ext cx="952560" cy="162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6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32640" y="282600"/>
                    <a:ext cx="95256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9"/>
          <p:cNvGraphicFramePr/>
          <p:nvPr/>
        </p:nvGraphicFramePr>
        <p:xfrm>
          <a:off x="141120" y="358920"/>
          <a:ext cx="952560" cy="162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8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1120" y="358920"/>
                    <a:ext cx="95256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09-17b-Fermentation-L"/>
          <p:cNvPicPr/>
          <p:nvPr/>
        </p:nvPicPr>
        <p:blipFill>
          <a:blip r:embed="rId2"/>
          <a:stretch/>
        </p:blipFill>
        <p:spPr>
          <a:xfrm>
            <a:off x="380880" y="326880"/>
            <a:ext cx="8534520" cy="637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999080" y="533520"/>
            <a:ext cx="581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Lactic Acid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62120" y="2521080"/>
            <a:ext cx="8134200" cy="31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human musc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&amp;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d to make cheese, yogurt, sour kr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585800" y="533520"/>
            <a:ext cx="419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688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704880" y="685800"/>
            <a:ext cx="81342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you work anaerobical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rmentation occurs in you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ctic acid build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219320" y="3124080"/>
          <a:ext cx="2879640" cy="332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124080"/>
                    <a:ext cx="287964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5"/>
          <p:cNvSpPr/>
          <p:nvPr/>
        </p:nvSpPr>
        <p:spPr>
          <a:xfrm>
            <a:off x="4588920" y="4343400"/>
            <a:ext cx="30679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sult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uscle so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lycoly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step in aerobic or anaerobic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cation: cytoplasm of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lucose          2 Pyruvic Acid molecu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s process does not require Oxyge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otal energy made is 4 ATP, but 2 is needed to start the rxn.  2 ATP is extr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at is made?  2 NADPH, 2 ATP, 2 Pyruvic Aci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cxnSp>
        <p:nvCxnSpPr>
          <p:cNvPr id="99" name="Straight Arrow Connector 4"/>
          <p:cNvCxnSpPr/>
          <p:nvPr/>
        </p:nvCxnSpPr>
        <p:spPr>
          <a:xfrm>
            <a:off x="2286000" y="3123720"/>
            <a:ext cx="457920" cy="252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09-06-CellularRespirat-L1.gif"/>
          <p:cNvPicPr/>
          <p:nvPr/>
        </p:nvPicPr>
        <p:blipFill>
          <a:blip r:embed="rId2"/>
          <a:stretch/>
        </p:blipFill>
        <p:spPr>
          <a:xfrm>
            <a:off x="762120" y="1209600"/>
            <a:ext cx="7619760" cy="5648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a58"/>
                </a:solidFill>
                <a:latin typeface="News Gothic MT"/>
              </a:rPr>
              <a:t>Glycolysi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5edf4"/>
                </a:solidFill>
                <a:latin typeface="News Gothic MT"/>
              </a:rPr>
              <a:t>glucose </a:t>
            </a:r>
            <a:r>
              <a:rPr b="0" lang="en-US" sz="3200" spc="-1" strike="noStrike">
                <a:solidFill>
                  <a:srgbClr val="d5edf4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d5edf4"/>
                </a:solidFill>
                <a:latin typeface="News Gothic MT"/>
              </a:rPr>
              <a:t> pyruvate</a:t>
            </a:r>
            <a:br>
              <a:rPr sz="3200"/>
            </a:b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371600" y="6095880"/>
            <a:ext cx="16765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4" name="Content Placeholder 3" descr="glycolysis_steps.jpg"/>
          <p:cNvPicPr/>
          <p:nvPr/>
        </p:nvPicPr>
        <p:blipFill>
          <a:blip r:embed="rId2"/>
          <a:srcRect l="-94412" t="0" r="-94412" b="0"/>
          <a:stretch/>
        </p:blipFill>
        <p:spPr>
          <a:xfrm>
            <a:off x="-685800" y="0"/>
            <a:ext cx="106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lycoly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7" name="Picture 3" descr="bio_ch9_4756"/>
          <p:cNvPicPr/>
          <p:nvPr/>
        </p:nvPicPr>
        <p:blipFill>
          <a:blip r:embed="rId2"/>
          <a:stretch/>
        </p:blipFill>
        <p:spPr>
          <a:xfrm>
            <a:off x="457200" y="2984400"/>
            <a:ext cx="7867800" cy="2340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693000" y="3321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7171920" y="33210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165440" y="43117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erobic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equir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lease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 and C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nd energ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member that cellular respiration is the opposite of photosynthesi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C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6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H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12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0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6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 + 6 O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        6 CO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+ 6 H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O + AT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3276720" y="5335560"/>
            <a:ext cx="457920" cy="216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6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6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6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6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erobic Respir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lycolysis is  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step and in both aerobic or anaerobic respi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Steps in Aerobic Respiratio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2.  Citric Acid Cycle or Krebs Cycl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3.  Hydrogen and Electron Transport System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3:25:40Z</dcterms:created>
  <dc:creator>Jason Cobb</dc:creator>
  <dc:description/>
  <dc:language>en-US</dc:language>
  <cp:lastModifiedBy>Jason Cobb</cp:lastModifiedBy>
  <dcterms:modified xsi:type="dcterms:W3CDTF">2012-11-07T21:46:00Z</dcterms:modified>
  <cp:revision>23</cp:revision>
  <dc:subject/>
  <dc:title>Chapter 4 Cellular Respiration</dc:title>
</cp:coreProperties>
</file>